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B9B-EB8B-4A05-A525-F8673663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CB6-6DD5-4E31-826A-01C2E2B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B81-66AF-464F-B31A-5B0EF2ED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571-E7C4-439D-91A5-64F7732A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79CF-0F15-4B5C-9D09-5EA85BD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69D-DD14-4061-BBBB-84201D5C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6F2-A773-432A-AF83-D697146E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37A-D9E7-4218-9C41-C10D0DE7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90CA-E5F6-4B59-8BA0-752E3093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940-D806-4D71-8474-CBDC599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902C-7307-4A0E-8695-7F95ABF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8AD-FD37-4F27-99BC-44B5A2B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FCDA-9F3E-4F7A-92EF-D7C9311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EDC4-7345-4455-BDD3-988C09D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3E0-EFA5-4834-9FD2-4659110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E3CF-D433-4F44-B3D8-30CCDDC7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CAD9-988A-4456-AAA8-F16DB8E6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507E-BC84-48A4-8220-8D8BC2CD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E3C9-D521-4F53-9882-BB40EC8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4C56-7006-447C-8DA8-630D1286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6734-4787-4700-A21E-153AB94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E735-EE5D-40E3-A28C-5263569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993-F217-4546-A1C6-5818BD9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9E01-AA18-41CF-98C5-F9BA208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A2B6-FF56-4DCA-AAFC-5A5B5A9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79DE-FBB9-47E0-9DBD-B0C769C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F8F2-9758-479C-A8BF-933B720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2E0C-2AC7-4D2C-BB1B-14A9019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6300-FEE5-4566-8509-7A463546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CF36-8E3D-4E3D-8633-CBA8C99B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1FED-9B04-4C97-853A-FB22673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ECC2-B0F0-48CC-B515-D3BE8149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849D-5EA6-4CEB-A999-FCF7A6E4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16D-021F-4FFC-9EF3-06FC719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C04B-DE52-417F-866B-11A8DA0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61AD-8BB1-42F0-A765-2885F64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CF41-9B69-4EDA-BAD3-0D2DCC79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B02F-4C2E-437C-B1A6-ECCD516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8865-27F5-4AB9-AD30-FF85C25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093B-F3E5-4C7C-AAF6-5FE08EE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9F03-7BBF-453B-88C2-8E6D418D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A60C-4E73-496B-8B7B-8C39DE12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4A60-F1BA-4812-A9EA-A83F7DA7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3680-BAA1-456E-9802-CEF67F41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65C-E71A-4BAD-9AAE-47F042B5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861F-FBCA-45B6-AAD9-E0ECA62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D5EC-6330-47A3-9DDF-2CD7D2B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3078-E047-4497-BAB9-BBCD88FC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8474-1D89-45FB-9FA8-A4C7138D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8151-96E7-4981-882A-9BF5478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DAC7-D6D0-4E3B-A232-8D38F10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5FBA-6A71-4DDD-8B64-E73BD22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7B7A-BC30-457E-8DDD-9E0B577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BCCA-9F6B-433A-95BC-3F56014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F53E-DC57-4660-9DF3-7F93D7B0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6DF-D8B4-419E-8FEC-ACFF71BA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2D86-ADA4-4B43-B9A5-C575082E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F929-871E-451C-8009-BC343929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FF8E-FFF2-4C32-A36F-4581FAED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297D-26F1-4D10-8A4D-BE187AC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A195-1293-4DAC-A6E8-A2ACD66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77F17-F622-4195-9833-0AEF145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CE8A-A8BC-4A70-B701-8A75142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BFEA-72EE-4227-BB64-06A2B57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432A-0E5D-4264-824B-933ECA8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3461-AD22-46DF-B400-15DF01B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1EA-4E78-4CD0-9343-886FCB8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B8FF-C397-464C-A020-7FCB6FD1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426EB-1FFD-44F6-BCF0-24EC7A0C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89F7-C962-4FA9-B97F-16FCA6D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69A8-9D6B-4C34-8BB2-AFDA4DFE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D8AB-10A3-4832-A918-2969992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0D85-E927-4004-8B04-D51CC93A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4E56-09E2-4910-BA7B-7B1EE3A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B1ED-0281-4CC5-9396-41863DA1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8834-36C9-42A8-894A-54381A2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A63F-5BAE-4F87-B4C6-971BF74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A84-765E-4DBF-A2B1-290249B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D1F84-0A4B-46FA-8785-9577EF0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85EE-8A43-44F9-ACFB-4587E81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FCD8-23D5-48A8-A856-524F75A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C0B5F-8ABE-4864-A175-1D16FBF7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94BB-D150-4EF9-A846-D923945D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263-E173-4F25-8FDA-DC7C1FA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018-E1CD-4C1D-8C6B-F88341D74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D70-65C1-48EB-B349-4575F485B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E73-6D55-4708-A413-3F258B25AA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489-18E9-4B03-A21E-D52D39C9F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60AB-F71C-45EA-A54E-8751256CB4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44C1-3663-4D1C-B998-2D3B3487A3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80E-F0E5-4CB4-A986-95DC0BF2A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80960" y="2567160"/>
            <a:ext cx="810252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9040"/>
            <a:ext cx="71294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Nance, Hyorim Park, Deepa Ra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9266400" cy="1244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ositive Distraction for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ur of the Hospital’s 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iew of other areas of the world (NYC, DC, grand canyon…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180560" cy="938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cienceroll.files.wordpress.com/2008/08/imperial-1-small.jpg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2291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ww.popsci.com/files/imagecache/article_image_large/files/articles/GoogleEarth-Manhattan.jpg"/>
          <p:cNvPicPr/>
          <p:nvPr/>
        </p:nvPicPr>
        <p:blipFill>
          <a:blip r:embed="rId4"/>
          <a:stretch/>
        </p:blipFill>
        <p:spPr>
          <a:xfrm>
            <a:off x="609480" y="4038480"/>
            <a:ext cx="3276720" cy="242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http://penfall.files.wordpress.com/2007/04/grand-canyon222.jpg"/>
          <p:cNvPicPr/>
          <p:nvPr/>
        </p:nvPicPr>
        <p:blipFill>
          <a:blip r:embed="rId5"/>
          <a:stretch/>
        </p:blipFill>
        <p:spPr>
          <a:xfrm>
            <a:off x="4114800" y="4038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re b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orsen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lack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to stress and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willing to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437600" cy="124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98" name="그룹 8"/>
          <p:cNvGrpSpPr/>
          <p:nvPr/>
        </p:nvGrpSpPr>
        <p:grpSpPr>
          <a:xfrm>
            <a:off x="685800" y="1523880"/>
            <a:ext cx="7620120" cy="4267440"/>
            <a:chOff x="685800" y="1523880"/>
            <a:chExt cx="7620120" cy="4267440"/>
          </a:xfrm>
        </p:grpSpPr>
        <p:sp>
          <p:nvSpPr>
            <p:cNvPr id="299" name="모서리가 둥근 직사각형 3"/>
            <p:cNvSpPr/>
            <p:nvPr/>
          </p:nvSpPr>
          <p:spPr>
            <a:xfrm>
              <a:off x="5715000" y="457200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ositive Distra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모서리가 둥근 직사각형 4"/>
            <p:cNvSpPr/>
            <p:nvPr/>
          </p:nvSpPr>
          <p:spPr>
            <a:xfrm>
              <a:off x="6858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Self Regist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모서리가 둥근 직사각형 5"/>
            <p:cNvSpPr/>
            <p:nvPr/>
          </p:nvSpPr>
          <p:spPr>
            <a:xfrm>
              <a:off x="685800" y="464832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Providing Inform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모서리가 둥근 직사각형 6"/>
            <p:cNvSpPr/>
            <p:nvPr/>
          </p:nvSpPr>
          <p:spPr>
            <a:xfrm>
              <a:off x="5715000" y="1523880"/>
              <a:ext cx="2590920" cy="1143000"/>
            </a:xfrm>
            <a:prstGeom prst="roundRect">
              <a:avLst>
                <a:gd name="adj" fmla="val 16667"/>
              </a:avLst>
            </a:prstGeom>
            <a:solidFill>
              <a:srgbClr val="a0c435"/>
            </a:solidFill>
            <a:ln w="22320">
              <a:solidFill>
                <a:srgbClr val="748f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Monitoring Vital 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838160" cy="1557360"/>
          </a:xfrm>
          <a:prstGeom prst="rect">
            <a:avLst/>
          </a:prstGeom>
          <a:ln w="0">
            <a:noFill/>
          </a:ln>
        </p:spPr>
      </p:pic>
      <p:cxnSp>
        <p:nvCxnSpPr>
          <p:cNvPr id="304" name="Shape 14"/>
          <p:cNvCxnSpPr>
            <a:endCxn id="302" idx="2"/>
          </p:cNvCxnSpPr>
          <p:nvPr/>
        </p:nvCxnSpPr>
        <p:spPr>
          <a:xfrm flipV="1">
            <a:off x="5486040" y="2666160"/>
            <a:ext cx="152460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5" name="Shape 16"/>
          <p:cNvCxnSpPr>
            <a:endCxn id="299" idx="0"/>
          </p:cNvCxnSpPr>
          <p:nvPr/>
        </p:nvCxnSpPr>
        <p:spPr>
          <a:xfrm>
            <a:off x="5486040" y="4038480"/>
            <a:ext cx="1524600" cy="53424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6" name="Shape 18"/>
          <p:cNvCxnSpPr>
            <a:endCxn id="300" idx="2"/>
          </p:cNvCxnSpPr>
          <p:nvPr/>
        </p:nvCxnSpPr>
        <p:spPr>
          <a:xfrm rot="10800000">
            <a:off x="1980360" y="2666160"/>
            <a:ext cx="1677240" cy="68652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  <p:cxnSp>
        <p:nvCxnSpPr>
          <p:cNvPr id="307" name="Shape 20"/>
          <p:cNvCxnSpPr>
            <a:endCxn id="301" idx="0"/>
          </p:cNvCxnSpPr>
          <p:nvPr/>
        </p:nvCxnSpPr>
        <p:spPr>
          <a:xfrm flipV="1" rot="10800000">
            <a:off x="1980360" y="4038120"/>
            <a:ext cx="1677240" cy="610560"/>
          </a:xfrm>
          <a:prstGeom prst="bentConnector2">
            <a:avLst/>
          </a:prstGeom>
          <a:ln w="31680">
            <a:solidFill>
              <a:srgbClr val="a0c43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receiving the ER Assistant the patient will be asked to enter that information in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formation will be sent to the reception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fully functionality will allow for integration with the hospitals 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제목 5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7815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G_0777"/>
          <p:cNvPicPr/>
          <p:nvPr/>
        </p:nvPicPr>
        <p:blipFill>
          <a:blip r:embed="rId2"/>
          <a:stretch/>
        </p:blipFill>
        <p:spPr>
          <a:xfrm>
            <a:off x="60948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IMG_0782"/>
          <p:cNvPicPr/>
          <p:nvPr/>
        </p:nvPicPr>
        <p:blipFill>
          <a:blip r:embed="rId3"/>
          <a:stretch/>
        </p:blipFill>
        <p:spPr>
          <a:xfrm>
            <a:off x="4114800" y="16002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4191120" y="3962520"/>
            <a:ext cx="3124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047080" cy="1244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vital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istant will have an attachment that will take the patients vital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ill be loaded to a screen for the nurses to monitor while the patient is in the wait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구름 7"/>
          <p:cNvSpPr/>
          <p:nvPr/>
        </p:nvSpPr>
        <p:spPr>
          <a:xfrm>
            <a:off x="3048120" y="2971800"/>
            <a:ext cx="1523880" cy="1447920"/>
          </a:xfrm>
          <a:prstGeom prst="pie">
            <a:avLst/>
          </a:prstGeom>
          <a:solidFill>
            <a:srgbClr val="ffffff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4952880" y="2109960"/>
            <a:ext cx="3767400" cy="2995560"/>
          </a:xfrm>
          <a:prstGeom prst="rect">
            <a:avLst/>
          </a:prstGeom>
          <a:ln w="0">
            <a:noFill/>
          </a:ln>
        </p:spPr>
      </p:pic>
      <p:pic>
        <p:nvPicPr>
          <p:cNvPr id="319" name="제목 1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edmundsweightloss.com/images/generic_arm_band.bmp"/>
          <p:cNvPicPr/>
          <p:nvPr/>
        </p:nvPicPr>
        <p:blipFill>
          <a:blip r:embed="rId3"/>
          <a:stretch/>
        </p:blipFill>
        <p:spPr>
          <a:xfrm>
            <a:off x="609480" y="2133720"/>
            <a:ext cx="198144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4"/>
          <a:stretch/>
        </p:blipFill>
        <p:spPr>
          <a:xfrm rot="21202800">
            <a:off x="5613480" y="2530080"/>
            <a:ext cx="2514600" cy="210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3429000" y="3276720"/>
            <a:ext cx="685800" cy="815760"/>
          </a:xfrm>
          <a:prstGeom prst="rect">
            <a:avLst/>
          </a:prstGeom>
          <a:ln w="0">
            <a:noFill/>
          </a:ln>
        </p:spPr>
      </p:pic>
      <p:sp>
        <p:nvSpPr>
          <p:cNvPr id="323" name="직선 연결선 9"/>
          <p:cNvSpPr/>
          <p:nvPr/>
        </p:nvSpPr>
        <p:spPr>
          <a:xfrm flipV="1">
            <a:off x="4343400" y="3606480"/>
            <a:ext cx="609480" cy="507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직선 연결선 11"/>
          <p:cNvSpPr/>
          <p:nvPr/>
        </p:nvSpPr>
        <p:spPr>
          <a:xfrm flipV="1">
            <a:off x="2514600" y="3352680"/>
            <a:ext cx="762120" cy="457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120160" cy="1244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Information about the wait that may be incurred and the tria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registration the device will inform the patient about estimated wait time for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the triage process and the ED will also b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640" y="150012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05:30Z</dcterms:created>
  <dc:creator>gradstudent</dc:creator>
  <dc:description/>
  <dc:language>en-US</dc:language>
  <cp:lastModifiedBy>박효림</cp:lastModifiedBy>
  <dcterms:modified xsi:type="dcterms:W3CDTF">2008-10-28T19:03:08Z</dcterms:modified>
  <cp:revision>9</cp:revision>
  <dc:subject/>
  <dc:title>Personal ER Assistant ()</dc:title>
</cp:coreProperties>
</file>